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5CA8-B403-4BCB-B289-5FB81D6C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0BBC-BC6D-4ECD-8680-9B7D8E96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14A0-C7D7-48C5-B4ED-8BECD8A07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8075-43A6-432E-B683-729F84191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3823-2D65-4926-B0D2-039503AE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0C67-2BBA-4E49-8B3C-FBD087E9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880A-E8A6-4CCB-9A6A-2A0D27D1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C1D1-1206-48DF-A6C3-72AB8BD1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F48D-71E1-4E3A-91F0-125D7A83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5C11-AD71-4653-9FB9-6CA8FCA3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B3C0-4828-437C-8EC2-C049CF39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B646-1501-48D7-85CC-74824E81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808C-9763-4269-BAE0-302256CC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E529-548D-4540-8DE2-0B3F05B3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1E61-835B-421D-87F1-439273EB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3F54-4FD5-4E42-ACC4-23320AF40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0774-7C81-44D3-8C2A-6D2ACB163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FA13A-18DD-4D66-843C-68EEE6C68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C4603-C7E3-4435-8CE0-B5DC38A5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2EB57-385C-4455-8126-340E20C8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F28FB-38B7-4DA0-B5A6-176ABD12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5022F-4FF5-4913-AEA1-D846851C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F6A5-95EC-4736-903B-5B1A265C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F9B35-CF32-484D-AD26-06B05BE5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5D409-9840-4511-8832-3AF1AD24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CD17E-6E8A-4830-AA33-8BABB1E1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69282-971E-4644-B9F9-2441F7B1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01077-07F7-49EF-864A-0690771B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36B98-C2CA-45F9-B8A0-C3F49659B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E1C19-088E-4CF3-88B5-2C9ECDED0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D9A6F-7D72-419A-B44E-FAAF68071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E91AC-AD65-4482-8AF1-5E1D972E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D3A05-C5CE-4201-90DF-F69D97DD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D2A1-30B2-4524-B09B-9A0B4476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F1A21-17A7-41CF-AEFD-598CCEBA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7FFA9-C2B9-49EB-8F91-1966D564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9C709-9A09-43FB-996B-EAF2B577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69233-DD12-4191-B544-36EFA4EF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C7692-0FBA-4839-A7A9-DA297019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D5ED0-7377-4D2C-A44A-883B212C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C401E-4CF6-41AA-81D6-99E014A6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4AB76-D60F-4B9B-8C8E-C10DA8AD0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2F046-228A-48FB-A6BC-6F96AFBCA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08AC-04BF-4AEB-910A-654BC96E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96B4-EFC8-4782-BC3F-EB406D07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4226-FC6F-49E4-B880-E06071FC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50C3-B99D-4C68-B189-803B627A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119C-2C3C-4107-82AB-0E24D981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3374-FC3A-4C16-94BF-C4FE41F84CD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EB53-DF9B-4358-9F03-DB6B03ED15C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9E3C-1197-4C81-A67B-3021073164A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35D8-29FC-4515-8B14-6659A6A7D65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3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РФА</cp:lastModifiedBy>
  <dcterms:modified xsi:type="dcterms:W3CDTF">2022-11-23T16:16:52Z</dcterms:modified>
  <cp:revision>7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